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E9B-E71A-4DFF-B9BA-CB99C503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AE0-DDAD-4DE9-BD69-4FFC1D9B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9FF-274C-4B30-9EC1-DE8F1512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263-1AA6-406F-AD19-EB9CC9DD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3F2-F62A-4CBA-B9A1-41D6672F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094-8D89-4D40-BFED-05E68535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1F1-4FC1-40B2-A2E5-DB777471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435-149A-4C54-8134-0B98525F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386-4389-485D-9F2B-EE5B0560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14D-D9D9-4E2D-86FF-393F8857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91E-D8D5-440D-A557-91F7095E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619-0300-4A85-A04C-778CE47E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4295-738D-458C-9100-F8793D261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Me llamo __________ Clase 701 </a:t>
            </a:r>
            <a:br>
              <a:rPr sz="4000"/>
            </a:b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La fecha es el 28 de ener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4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ntos jugadores hay en un equipo de fu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L.O: to practice socce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sports.inquirer.net/files/2014/07/james-rodriguez.jpg"/>
          <p:cNvPicPr/>
          <p:nvPr/>
        </p:nvPicPr>
        <p:blipFill>
          <a:blip r:embed="rId1"/>
          <a:stretch/>
        </p:blipFill>
        <p:spPr>
          <a:xfrm>
            <a:off x="-830160" y="762120"/>
            <a:ext cx="532584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http://www.experts-du-sport.be/wp-content/uploads/2014/06/neymar.jpg"/>
          <p:cNvPicPr/>
          <p:nvPr/>
        </p:nvPicPr>
        <p:blipFill>
          <a:blip r:embed="rId2"/>
          <a:stretch/>
        </p:blipFill>
        <p:spPr>
          <a:xfrm>
            <a:off x="6477120" y="762120"/>
            <a:ext cx="3808440" cy="3247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Que tiene el uniforme del equipo d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76320" y="401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omb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2438280" y="4038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rgent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http://ea-cdn.voxmedia.com/production/sbnation-world-cup-preview-2014/images/teams/group-d/costarica-player-1-51ddeb24.jpg"/>
          <p:cNvPicPr/>
          <p:nvPr/>
        </p:nvPicPr>
        <p:blipFill>
          <a:blip r:embed="rId3"/>
          <a:stretch/>
        </p:blipFill>
        <p:spPr>
          <a:xfrm>
            <a:off x="3809880" y="762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www.footballkitnews.com/wp-content/uploads/2013/11/Lionel-Messi-Argentina-2014-Kit.jpg"/>
          <p:cNvPicPr/>
          <p:nvPr/>
        </p:nvPicPr>
        <p:blipFill>
          <a:blip r:embed="rId4"/>
          <a:stretch/>
        </p:blipFill>
        <p:spPr>
          <a:xfrm>
            <a:off x="1981080" y="762120"/>
            <a:ext cx="2438640" cy="3276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6"/>
          <p:cNvSpPr/>
          <p:nvPr/>
        </p:nvSpPr>
        <p:spPr>
          <a:xfrm>
            <a:off x="4648320" y="401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osta R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7"/>
          <p:cNvSpPr/>
          <p:nvPr/>
        </p:nvSpPr>
        <p:spPr>
          <a:xfrm>
            <a:off x="7391520" y="4038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Brazi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2114640" y="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523880" y="365760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371600" y="502920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371600" y="541008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295280" y="6059520"/>
            <a:ext cx="556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523880" y="39625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ad! Im so sor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581280" y="4952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029200" y="56498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think of the te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1447920" y="64119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the team is fantastic. It always w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6858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la tabla d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64. Escucha y compl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Tarea # 4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5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en: Capitulo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808280"/>
          <a:ext cx="6096240" cy="101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 ORAL PARTS, ej. 1 p. 1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320" y="8380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jugador mete un gol cuando el balon no entra en la por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gadores vuelven al campo despues del par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gadores forman un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quipo pierde y el otro g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jugadora puede lanzar el balon con el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ficionados juegan en el 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juegan futbol en los paises hispanos, los jugadores no pueden tocar el balon con las 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cp:lastPrinted>2016-01-28T13:43:13Z</cp:lastPrinted>
  <dcterms:modified xsi:type="dcterms:W3CDTF">2016-01-29T20:38:04Z</dcterms:modified>
  <cp:revision>59</cp:revision>
  <dc:subject/>
  <dc:title>Me llamo _________        Clase 7 IM La fecha es el 4 de noviembre del 2010</dc:title>
</cp:coreProperties>
</file>